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DAA-CF2C-447B-8E3D-BA4ADF7A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020-638A-46BB-AFA6-23D2769D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4738-43EA-451B-B7DC-3A53091C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174-F8F2-47E1-BAE4-99FAAC85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79B-B6CE-4A9F-A1ED-3E358082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489-3619-4681-A0D7-A90B7E5B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D31-C10F-4358-943F-DFF0A625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3F4-9DED-4B72-B436-0415064A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7F17-5530-4972-BC93-9AE327DF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B48-328B-4F4A-B323-0B7614C6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CA7-6E39-49E6-BC7F-C56BAC4F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0D8-1B16-4FB3-B4FC-B9DF3430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B139-F5D0-47E1-9BBC-47C4D9CCB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esentation of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Cronk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1866960" cy="17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562720" y="33526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2971800" cy="252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5053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Alge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Ravie"/>
              </a:rPr>
              <a:t>Ra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20598600">
            <a:off x="2895480" y="2209320"/>
            <a:ext cx="45151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the background and insert picture from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20:06Z</dcterms:created>
  <dc:creator>CGB</dc:creator>
  <dc:description/>
  <dc:language>en-US</dc:language>
  <cp:lastModifiedBy>CGB</cp:lastModifiedBy>
  <dcterms:modified xsi:type="dcterms:W3CDTF">2008-05-28T14:24:23Z</dcterms:modified>
  <cp:revision>3</cp:revision>
  <dc:subject/>
  <dc:title>A Presentation of ME</dc:title>
</cp:coreProperties>
</file>